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notesSlide49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930B-786B-4201-9F95-634EC5923D2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E2D4-19D1-4FED-A282-E25D9EFAA6D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65B9-BAC7-4CDF-AE5D-8FE878A4333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8402A-CB9F-4A8C-9B12-C8A3CB6869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1967B-0ECE-419F-82D2-5236E153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172FE-8D8E-45A9-9583-7A250D62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DF48C-E9D4-4BC6-80BC-78F7494E28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74E20-931C-43FB-BFDB-B1B8F173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EC13E-E1D1-40AC-A350-508F6BE6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69873-84A7-4E34-A4DC-CFE67EC0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A1C5B-55F5-46F8-A74B-B9FE72FE6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C93D9-0A12-424A-8211-E8F3C5736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F1CBE-F996-4CF6-96BC-2A119C8C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9E150-42E7-4269-B853-44970187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9FB2F-F7D4-4DE8-BC0B-03592B82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A361-F693-45CE-8422-DF93B4C3246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app:ds:nitrogen%20balance" TargetMode="Externa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05000"/>
            <a:ext cx="4572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消化系统功能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02920" y="537372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华北理工大学护理与康复学院   景丽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13CF-688B-45F9-AF84-2D0B4E570F50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7CFB-8270-4B62-A2A0-8E11DFC6B55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4e0ec"/>
                </a:solidFill>
                <a:latin typeface="Verdana"/>
              </a:rPr>
              <a:t>腹痛的类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内脏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痛感弥散，定位不准确；疼痛过程缓慢、持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躯体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能准确反映病变刺激的部位，常引起肌紧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牵涉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某个内脏病变所产生的痛觉信号，被定位于远离该内脏的身体其他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03E2-6DAA-4EA0-B924-D588EF89DB50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E217-A894-46C5-A47E-D6E5EF25116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Verdana"/>
              </a:rPr>
              <a:t>腹痛的观察要点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7972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疼痛的部位、起始情况、程度、性质、时间 、与饮食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持续性、渐进性或是间歇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症状加重和缓解的因素及规律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伴随症状：发热、呕吐、排便的改变、腹胀、腹膜刺激征、皮肤与巩膜黄染。休克、神经精神症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0DE7-FEB6-43C6-8F9F-DA3155582F25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BE80-F512-4515-9685-0878726A55C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病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功能紊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查不到形态学的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感染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细菌感染或化学刺激引起的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出血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主要是血管破裂引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缺血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供血失常造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梗阻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空腔脏器及管道系统的通过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穿孔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空腔脏器穿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7345-378E-4C9B-86D7-B76AC226B0BE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09DD-4D28-49E2-8B72-28493A99311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穿孔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胃十二指肠穿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突发性上腹部刀割样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舟状腹，迅速出现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、有气腹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鸣音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诊断性腹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9DC9-16B8-4BC2-8315-BE960A372150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86A5-B473-49CA-B428-82F581872D4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炎症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急性胆囊炎、胆管炎、胰腺炎、阑尾炎、胃肠炎、盆腔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有体温升高，血白细胞及中性粒细胞增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痛由轻到重，呈持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有固定压痛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伴有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70FA-BFCA-4EB4-BA6A-A76A553544A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58B5-0F1B-4552-A6DB-EA72512538D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出血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肝脾破裂、腹主动脉瘤破裂、溃疡出血、食管胃底静脉曲张破裂、异位妊娠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多有外伤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以失血性表现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有不同程度的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gt;5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积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腔穿刺：不凝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1392-208A-4C4E-96EB-642151B99D55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E430-5DDD-4F12-80DA-32CFC177064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000"/>
                </a:solidFill>
                <a:latin typeface="Verdana"/>
              </a:rPr>
              <a:t>失血性周围循环衰竭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心率增快、血压降低、脉压减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晕厥、口干、烦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量减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冷汗、面色苍白、皮肤湿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F3BB-73E6-4051-9C9E-DA353A60EF4E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AB83-7542-4DD6-906B-2D2760CEE77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爆炸形 2 5"/>
          <p:cNvSpPr/>
          <p:nvPr/>
        </p:nvSpPr>
        <p:spPr>
          <a:xfrm rot="20559000">
            <a:off x="3624120" y="4916160"/>
            <a:ext cx="5472360" cy="1152360"/>
          </a:xfrm>
          <a:prstGeom prst="irregularSeal2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5c8c"/>
                </a:solidFill>
                <a:latin typeface="Verdana"/>
              </a:rPr>
              <a:t>液体好难打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梗阻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肠梗阻、肠套叠、结石、胆道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起病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阵发性绞痛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初期多无腹膜刺激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伴随症状：呕吐，大便，黄疸，血尿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C257-DEF3-4107-8BE3-E64D37F30B0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8BBD-32C8-428B-B6B4-6056CA0270F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缺血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肠扭转、肠系膜动脉栓塞、绞窄性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病情发展迅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呈持续性腹痛阵发性加剧或持续剧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易出现腹膜刺激征或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DDDF-3D7B-418E-BD93-F7FC808DE56B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F842-144C-4F7F-A8B5-39362E32CFB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1692360" y="2708280"/>
            <a:ext cx="688680" cy="593640"/>
            <a:chOff x="1692360" y="2708280"/>
            <a:chExt cx="688680" cy="593640"/>
          </a:xfrm>
        </p:grpSpPr>
        <p:sp>
          <p:nvSpPr>
            <p:cNvPr id="115" name="AutoShape 5"/>
            <p:cNvSpPr/>
            <p:nvPr/>
          </p:nvSpPr>
          <p:spPr>
            <a:xfrm>
              <a:off x="1697760" y="27183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1692360" y="270828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7"/>
            <p:cNvSpPr/>
            <p:nvPr/>
          </p:nvSpPr>
          <p:spPr>
            <a:xfrm>
              <a:off x="1732320" y="274320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8"/>
          <p:cNvSpPr/>
          <p:nvPr/>
        </p:nvSpPr>
        <p:spPr>
          <a:xfrm>
            <a:off x="1864080" y="27655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1692360" y="347040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827360" y="35528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1676520" y="4238640"/>
            <a:ext cx="686880" cy="593640"/>
            <a:chOff x="1676520" y="4238640"/>
            <a:chExt cx="686880" cy="593640"/>
          </a:xfrm>
        </p:grpSpPr>
        <p:sp>
          <p:nvSpPr>
            <p:cNvPr id="122" name="AutoShape 12"/>
            <p:cNvSpPr/>
            <p:nvPr/>
          </p:nvSpPr>
          <p:spPr>
            <a:xfrm>
              <a:off x="1681920" y="4248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3"/>
            <p:cNvSpPr/>
            <p:nvPr/>
          </p:nvSpPr>
          <p:spPr>
            <a:xfrm>
              <a:off x="1676520" y="42386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4"/>
            <p:cNvSpPr/>
            <p:nvPr/>
          </p:nvSpPr>
          <p:spPr>
            <a:xfrm>
              <a:off x="1716480" y="42735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5" name="Text Box 15"/>
          <p:cNvSpPr/>
          <p:nvPr/>
        </p:nvSpPr>
        <p:spPr>
          <a:xfrm>
            <a:off x="1844640" y="431496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18"/>
          <p:cNvSpPr/>
          <p:nvPr/>
        </p:nvSpPr>
        <p:spPr>
          <a:xfrm>
            <a:off x="2428920" y="3270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19"/>
          <p:cNvSpPr/>
          <p:nvPr/>
        </p:nvSpPr>
        <p:spPr>
          <a:xfrm>
            <a:off x="2428920" y="4062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2428920" y="48546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矩形 21"/>
          <p:cNvSpPr/>
          <p:nvPr/>
        </p:nvSpPr>
        <p:spPr>
          <a:xfrm>
            <a:off x="2428920" y="2406600"/>
            <a:ext cx="521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一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消化系统应用生理（自学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22"/>
          <p:cNvSpPr/>
          <p:nvPr/>
        </p:nvSpPr>
        <p:spPr>
          <a:xfrm>
            <a:off x="2500200" y="3559320"/>
            <a:ext cx="37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二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临床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矩形 23"/>
          <p:cNvSpPr/>
          <p:nvPr/>
        </p:nvSpPr>
        <p:spPr>
          <a:xfrm>
            <a:off x="2484360" y="4076640"/>
            <a:ext cx="57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三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重症胰腺炎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急性腹痛的判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外科性急腹症：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</a:rPr>
              <a:t>先腹痛，后有发热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等伴随症状。腹痛或压痛部位比较固定，程度重。可伴腹膜刺激征</a:t>
            </a: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内科性急腹症：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</a:rPr>
              <a:t>先热后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，腹痛多无固定部位，程度轻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胃肠炎、心肌梗死、腹型过敏性紫癜、大叶性肺炎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E9C1-A941-456E-836F-B0D9E1426EF5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C99B-306F-4F14-995D-AC20B5F12D5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F2D0-50D4-4246-BFA5-5A4EF4107EE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4473-CEE4-4947-AA62-3E7B56181FC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腹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771640" y="1628640"/>
            <a:ext cx="7467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膨隆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腹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压的测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34EE-71FE-4096-8434-2744AB713DC3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306B-0C25-43EA-A47D-EFD6D2ED104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内压测定：经导尿管膀胱测压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平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以耻骨联合作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排空膀胱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导尿管向膀胱内滴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生理盐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得平衡时水柱的高度即为腹腔内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ECE6-B120-4260-B400-D0F4BBCB93DA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3DD4-A02B-4EEA-A022-1DBFA03EF30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间室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般来讲，腹腔内压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ntra—abdominal pres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增加到</a:t>
            </a:r>
            <a:r>
              <a:rPr b="1" lang="en-US" sz="2800" spc="-1" strike="noStrike">
                <a:solidFill>
                  <a:srgbClr val="8a5c8c"/>
                </a:solidFill>
                <a:latin typeface="Verdana"/>
              </a:rPr>
              <a:t>&gt;25 cmH</a:t>
            </a:r>
            <a:r>
              <a:rPr b="1" lang="en-US" sz="2800" spc="-1" strike="noStrike" baseline="-25000">
                <a:solidFill>
                  <a:srgbClr val="8a5c8c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8a5c8c"/>
                </a:solidFill>
                <a:latin typeface="Verdana"/>
              </a:rPr>
              <a:t>O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时，就会引发脏器功能障碍，出现腹腔间隔室综合征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bdominal compartment syndrom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指继发于腹内压急剧升高的脏器功能不全。主要表现为恶心、呕吐、腹胀、呼吸困难、肠鸣音减弱或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8FB6-AF11-4509-AC67-76494939C9DA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9AD9-C89B-434A-92E9-FAACE1F26F6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7B11-DE9F-40CA-97E5-D7252398578A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5FD5-6C2F-47E0-B535-B51778F75A7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  <a:ea typeface="宋体"/>
              </a:rPr>
              <a:t>呕吐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与记录呕吐次数与量、呕吐物性质、气味、颜色、有无隔宿食物。必要时留取标本送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内积血量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25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3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可引起呕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B610-6F47-4967-BA2F-B50080F9C7DA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719B-DE86-4CB2-8B32-1D84B068C9A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留置胃管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引流液的量与性状、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管是否固定妥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肠减压负压是否有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F18D-8AE2-4F87-BF4E-3ADCE5F33049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8C53-CCF4-4E47-8210-CDC58A15D6D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云形标注 5"/>
          <p:cNvSpPr/>
          <p:nvPr/>
        </p:nvSpPr>
        <p:spPr>
          <a:xfrm>
            <a:off x="2448000" y="5057640"/>
            <a:ext cx="6696000" cy="1800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5c8c"/>
                </a:solidFill>
                <a:latin typeface="Verdana"/>
              </a:rPr>
              <a:t>“</a:t>
            </a:r>
            <a:r>
              <a:rPr b="0" lang="zh-CN" sz="3200" spc="-1" strike="noStrike">
                <a:solidFill>
                  <a:srgbClr val="8a5c8c"/>
                </a:solidFill>
                <a:latin typeface="方正舒体"/>
                <a:ea typeface="方正舒体"/>
              </a:rPr>
              <a:t>引流出黄绿色胃液”？吐啦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  <a:ea typeface="宋体"/>
              </a:rPr>
              <a:t>便血的观察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的次数与量、粪便性质、颜色、气味、有无里急后重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大便隐血实验阳性提示每日出血量大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5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1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现黑便表明出血量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7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C7C1-70E3-43CF-822F-BA602E8DEB35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1B28-6AA4-43C3-B1B6-C5FE7D14B46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监测出血征象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记录呕血、黑便和便血的频度、颜色、性质、次数和总量，定期复查红细胞计数、血红蛋白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Hc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与血尿素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生命体征和循环状况：监测意识状态、脉搏和血压、肢体温度、皮肤和甲床色泽、周围静脉特别是颈静脉充盈情况、尿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886D-E8B8-4407-B4A8-0ACA26C63FF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81D8-BBE1-4082-B878-BBC6735A63D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196640"/>
            <a:ext cx="72072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消化系统常见临床症状、体征及评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急性重症胰腺炎疾病的临床表现和分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解释肝功能监测内容及临床意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解释营养状态评估的方法和意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比较不同营养支持方式的实施方法及适用范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急性重症胰腺炎的诊断和治疗要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评估消化系统疾病患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评估重症胰腺炎患者并为其制订护理计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7DDB-D80A-412E-AEF0-A72E73C31E2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活动性出血的判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9640" y="898560"/>
            <a:ext cx="7467840" cy="59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呕血或黑便次数增多、颜色变鲜红。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胃管抽出物有较多鲜血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经快速输液输血，周围循环衰竭的表现未见明显改善，或虽暂时好转而又恶化，中心静脉压仍有波动，稍稳定又再下降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红细胞计数、血红蛋白测定和</a:t>
            </a:r>
            <a:r>
              <a:rPr b="1" lang="en-US" sz="2700" spc="-1" strike="noStrike">
                <a:solidFill>
                  <a:srgbClr val="8ac8de"/>
                </a:solidFill>
                <a:latin typeface="Verdana"/>
              </a:rPr>
              <a:t>Hct</a:t>
            </a: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继续下降，网织红细胞计数持续增高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补液和尿量足够的情况下，血尿素氮持续或再次增高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AD27-D7B4-4F0E-A534-7ECA1F506DB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8966-BE21-4976-8F98-3EF420EBFAF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Verdana"/>
              </a:rPr>
              <a:t>消化系统常见护理问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疼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腹腔内器官炎症、出血、损伤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体液不足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腹腔内液体渗出、呕吐或禁食等所致的液体丢失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营养失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减少进食量及异常消化功能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恐惧</a:t>
            </a:r>
            <a:r>
              <a:rPr b="1" lang="en-US" sz="2800" spc="-1" strike="noStrike">
                <a:solidFill>
                  <a:srgbClr val="ffc000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焦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腹痛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03C1-6DD8-4AA0-8B90-40E7845401F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F9B7-131A-4F31-BB21-06FFD5FD39C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f0"/>
                </a:solidFill>
                <a:latin typeface="Verdana"/>
              </a:rPr>
              <a:t>急性腹痛未明确诊断前：</a:t>
            </a:r>
            <a:r>
              <a:rPr b="1" lang="zh-CN" sz="3200" spc="-1" strike="noStrike">
                <a:solidFill>
                  <a:srgbClr val="ffc000"/>
                </a:solidFill>
                <a:latin typeface="Verdana"/>
              </a:rPr>
              <a:t>五禁四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11280" y="1628640"/>
            <a:ext cx="4039920" cy="39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食、水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用止痛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用热敷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灌肠及使用泄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止活动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140000" y="1699920"/>
            <a:ext cx="42145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休克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感染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水、电解质和酸碱失衡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腹胀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014B-4B0F-4089-B0D0-CCEEAA106650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灯片编号占位符 7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F787E-8208-4C33-8547-0094BC96585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000"/>
                </a:solidFill>
                <a:latin typeface="Verdana"/>
                <a:ea typeface="宋体"/>
              </a:rPr>
              <a:t>减轻疼痛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非休克患者取半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食和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痉和镇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0CAE-A569-4EB2-8F38-1DA723E6B0DF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6FC1-08CF-44B8-83DA-5F98E6C3028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二、肝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精神状态及意识状态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黄疸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清酶学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凝血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清蛋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氨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血清蛋白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总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球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球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意义：慢性肝炎、肝硬化时常出现白蛋白减少而球蛋白增加，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/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比例倒置。白蛋白主要在肝中制造，一般白蛋白量越多，人体越健康，影响机体的胶体渗透压水平。球蛋白大部分在肝细胞外生成，球蛋白与人体的免疫力有关系，球蛋白要保持一定的量，球蛋白值偏高说明体内存在免疫系统的亢进，偏低说明免疫力不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78920" y="1125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胆红素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总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.1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，直接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，间接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7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意义：主要用于诊断肝疾病和胆道梗阻。当肝发生炎症、坏死、中毒等损害均可以引起黄疸，胆道疾病及溶血性疾病也可以引起黄疸。以直接胆红素升高为主常见于原发性胆汁型肝硬化、胆道梗阻等。以间接胆红素升高为主常见于溶血性疾病、新生儿黄疸或者输血错误等。肝炎与肝硬化患者的直接胆红素与间接胆红素都可以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胆红素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特别说明：一般来说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的黄疸，视诊不易察出，称为隐性黄疸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轻度黄疸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中度黄疸；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高度黄疸。完全阻塞性黄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1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不完全阻塞者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65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肝细胞性黄疸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溶血性黄疸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5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600"/>
            <a:ext cx="8610480" cy="4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血清酶学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85690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四）血氨的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氨正常值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μmol/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意义：血氨值偏高可能影响肝病患者肝昏迷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化系统的主要生理功能是摄取和消化食物、吸收营养和排泄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肝性脑病为例讲授重症消化患者护理评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点内容之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重症胰腺炎患者重症监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点内容之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营养素的调理作用，调节免疫功能，增强机体抗病能力，从而影响疾病的发展与转归，这是实现危重症患者营养支持的总目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营养状态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评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人体测量、实验室检查及综合营养评定方法等手段，判定人体营养状况，确定营养不良的程度及类型，并监测营养支持疗效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皮褶厚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推断全身脂肪含量、判断皮下脂肪发育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定部位主要有上臂肱三头肌、肩胛下角部及腹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上常用肱三头肌皮褶厚度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SF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测定：在右上臂后面肩峰与鹰嘴连线的中点，夹取与上肢长轴平行的皮褶，纵向测量。正常参考值男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2.5m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女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6.5m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实测值在正常值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以上为正常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体脂轻度亏损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中度亏损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重度亏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上臂肌围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M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间接反映机体内蛋白质储存情况，与血清白蛋白水平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M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=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臂围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4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肱三头肌皮褶厚度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臂肌围参考值男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4.8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女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1.0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实测值在参考值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以上为正常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轻度营养不良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中度，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重度。测量上臂围时，被测者上臂自然下垂，取上臂中点，用软尺测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血清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rum albu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L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持续低白蛋白血症被认为是判定营养不良的可靠指标。正常参考范围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若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营养不良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则为重度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转铁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ransferr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RF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评定蛋白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热量营养不良时更为敏感。正常参考范围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属于中度营养不良，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严重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肌酐身高指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H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1"/>
              </a:rPr>
              <a:t>nitrogen balanc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N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评定机体蛋白质营养状况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最可靠和最常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的指标。一般食物的蛋白质中氮的平均含量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。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NB =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蛋白质摄入量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6.2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[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中尿素氮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]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其中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为人体每天通过呼吸道、粪便、汗液及尿中其他形式排出的氮。若氮摄入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=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氮排出量为氮平衡，氮摄入量＞氮排出量为正氮平衡，氮摄入量＜氮排出量为负氮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免疫功能评定：危重症患者中蛋白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热量营养不良者，常伴有细胞免疫功能减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总淋巴细胞计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L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是目前评定细胞免疫功能的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简易方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L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正常，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2-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轻度营养不良，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-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中度营养不良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重度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皮肤迟发型超敏反应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D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综合营养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778500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重症患者常合并代谢紊乱与营养不良，需要给予营养支持；且应尽早开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计算机体能量消耗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1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）基础热量消耗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basal energy expenditur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，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BE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男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66.4+13.7×W+5.0×H-6.8×A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女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66.5+9.6×W+1.8×H-4.7×A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静息能量消耗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：餐后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h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上，合适温度下，安静平卧或静坐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上所测得的人体能量消耗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较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％左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男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5.48×H +11.51×W-3.47×A-189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女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2.95×H +8.73×W-1.94×A+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5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计算总能量需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公式计算法：在活动、应激和发热时，危重症患者，公式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EE=BEE×AF×IF×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计算得出，其中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A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活动系数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I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应激系数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体温系数，以正常体温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的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体温每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系数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0.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活动系数和应激系数见教材（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和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5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6920" y="1699920"/>
            <a:ext cx="7772400" cy="25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第二节   临床监护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简易估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总能量可以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 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计算，但不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重症患者急性应激期营养支持应掌握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“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允许性低热卡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”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原则，能量补充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在应激与代谢状态稳定后能量供给需要适当的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否则将难以纠正患者的低蛋白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确定各种营养物质的供给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非蛋白供能物质：以碳水化合物、脂肪共同供能为首选。碳水化合物与脂肪热量比可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碳水化合物的供给量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00g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而脂肪乳剂所提供的脂肪量，通常每日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5g/k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蛋白质：正常情况下，足够的蛋白质供给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0g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危重症患者热氮比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50kca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在严重应激下，尤其是对重症肺炎，热氮比应适当降至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30kca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24000" y="1197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确定各种营养物质的供给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水及电解质：可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0ml/k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估计液体的需要量，再加上丢失量，即为液体补充量；体温升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基础体温）时，需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00m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的入量。正常成年人电解质日需要量分别为：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0-12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氯化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.8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.0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钾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2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氯化钾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6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9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钙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1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葡萄糖酸钙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6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.5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镁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5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硫酸镁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7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微量营养素：包括水溶性维生素、脂溶性维生素和必需微量元素。目前药品市场上复合性多种维生素和微量元素制剂较多，使用方便、安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确定营养支持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外营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arenteral nutri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内营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enteral nutri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E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两种方法共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外营养输注途径与方式，周围静脉或中心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肠外、肠内营养支持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途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液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输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并发症及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468360" y="2204640"/>
            <a:ext cx="827568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第三节  急性重症胰腺炎患者的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胰腺炎伴有脏器功能障碍，或出现坏死、脓肿或假性囊肿等局部并发症者，或两者兼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腹部体征有上腹部明显的压痛、反跳痛、肌紧张、腹胀、肠鸣音减弱或消失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包块，偶见腰肋部皮下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淤斑征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Grey-Tumer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征）和脐周皮下淤斑征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ulle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征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可并发一个或多个脏器功能障碍，或严重代谢功能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增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诊断胰腺坏死的最有效方法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超及腹腔穿刺对诊断有一定帮助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APACH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分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althazar 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分级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系统≥Ⅱ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重症胰腺炎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的诊断标准为：有急性胰腺炎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的临床表现和生化改变，且具备下列条件之一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并发症（胰腺坏死、脓肿或假性囊肿等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个或多个器官衰竭，可伴有严重的代谢功能紊乱，包括低钙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③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Ranson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④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PACH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Balthazar C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分级≥Ⅱ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患者，男性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主诉：上腹部疼痛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d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加重伴恶心呕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h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现病史：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d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前患者因朋友聚会，共饮白酒约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50m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于夜间出现上腹部疼痛，持续性伴阵发性加剧，伴后腰部放散痛，自服止痛药效果不明显，屈膝侧卧位疼痛略缓解。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h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前腹痛加重，伴恶心、呕吐，呕吐物为胃内容物，并有发热，体温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7.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无寒战。于我院门诊急检尿淀粉酶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000IU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淀粉酶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00IU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为求进一步诊治入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既往史：否认糖尿病、高血压病史及家族史，否认肝炎及结核病史，无药物过敏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体格检查：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T 36.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P 8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 16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BP 120/80mmHg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神清语明，皮肤黏膜未见异常，浅表淋巴结未触及肿大。双肺呼吸音清晰，未闻及干湿音，心率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节律规整，心脏各瓣膜听诊区未闻及病理性杂音。腹平软，左上腹压痛，无反跳痛及肌紧张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Murphy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征阴性，肝肋下未触及。双下肢无水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辅助检查血常规：白细胞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9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NE%78%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红细胞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2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12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小板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2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9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钾离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1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钙离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0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糖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.1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请问应如何对该患者进行评估与护理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CD5A-58ED-4D0F-A678-1FF2BA68229B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B331-EFDA-4B0D-9B69-4B18553F013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3" name="组合 20"/>
          <p:cNvGrpSpPr/>
          <p:nvPr/>
        </p:nvGrpSpPr>
        <p:grpSpPr>
          <a:xfrm>
            <a:off x="539640" y="1413000"/>
            <a:ext cx="8064720" cy="4319640"/>
            <a:chOff x="539640" y="1413000"/>
            <a:chExt cx="8064720" cy="4319640"/>
          </a:xfrm>
        </p:grpSpPr>
        <p:pic>
          <p:nvPicPr>
            <p:cNvPr id="144" name="矩形 9" descr=""/>
            <p:cNvPicPr/>
            <p:nvPr/>
          </p:nvPicPr>
          <p:blipFill>
            <a:blip r:embed="rId1"/>
            <a:stretch/>
          </p:blipFill>
          <p:spPr>
            <a:xfrm>
              <a:off x="539640" y="1413000"/>
              <a:ext cx="183132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矩形 10"/>
            <p:cNvSpPr/>
            <p:nvPr/>
          </p:nvSpPr>
          <p:spPr>
            <a:xfrm>
              <a:off x="3142440" y="1429560"/>
              <a:ext cx="5461920" cy="100044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患者及家属：</a:t>
              </a:r>
              <a:r>
                <a:rPr b="0" lang="zh-CN" sz="3200" spc="-1" strike="noStrike">
                  <a:solidFill>
                    <a:srgbClr val="ff0000"/>
                  </a:solidFill>
                  <a:latin typeface="Verdana"/>
                </a:rPr>
                <a:t>病史、</a:t>
              </a: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心理社会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矩形 11"/>
            <p:cNvSpPr/>
            <p:nvPr/>
          </p:nvSpPr>
          <p:spPr>
            <a:xfrm>
              <a:off x="3142440" y="3002040"/>
              <a:ext cx="5461920" cy="107136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患者：主诉、</a:t>
              </a:r>
              <a:r>
                <a:rPr b="0" lang="zh-CN" sz="3200" spc="-1" strike="noStrike">
                  <a:solidFill>
                    <a:srgbClr val="ff0000"/>
                  </a:solidFill>
                  <a:latin typeface="Verdana"/>
                </a:rPr>
                <a:t>体格检查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矩形 12"/>
            <p:cNvSpPr/>
            <p:nvPr/>
          </p:nvSpPr>
          <p:spPr>
            <a:xfrm>
              <a:off x="3142440" y="4716360"/>
              <a:ext cx="5461920" cy="100044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临床症状、体征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左箭头 13"/>
            <p:cNvSpPr/>
            <p:nvPr/>
          </p:nvSpPr>
          <p:spPr>
            <a:xfrm>
              <a:off x="2423160" y="178740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左箭头 16"/>
            <p:cNvSpPr/>
            <p:nvPr/>
          </p:nvSpPr>
          <p:spPr>
            <a:xfrm>
              <a:off x="2423160" y="343080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左箭头 17"/>
            <p:cNvSpPr/>
            <p:nvPr/>
          </p:nvSpPr>
          <p:spPr>
            <a:xfrm>
              <a:off x="2423160" y="507384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恶心、呕吐及腹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发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水、电解质及酸碱平衡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低血压和休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rey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urne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征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ulle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液体积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胰腺假性囊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胰腺脓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胰腺及胰周组织坏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呼吸窘迫综合征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RD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其他：急性肾衰竭、心律失常或心力衰竭、肝功能衰竭、消化道出血、败血症、胰性脑病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实验室检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白细胞计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血清脂肪酶测定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清脂肪酶常在起病后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2h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开始上升，持续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天，对病后就诊较晚的急性胰腺炎患者有诊断价值，且特异性也较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淀粉酶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注：诊断中应注意淀粉酶的高低不一定反映病情轻重，出血坏死型胰腺炎淀粉酶值可正常或低于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反应蛋白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RP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其他生化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影像学检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线：急性期可见“哨兵袢”和“结肠切割征”，是胰腺炎的间接指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超：可以观察胰腺形态及有无胆道结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增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：是近年来被广泛接受的敏感确诊急性胰腺炎的方法。在口服或静脉注射增强造影剂后，可以得到清晰的胰腺图像，是诊断胰腺坏死的金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般采取非手术治疗以维护器官功能，感染性坏死采用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病因治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胆源性：有胆道梗阻者及时解除梗阻。若无胆道梗阻者先行非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高血脂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酒精性：禁食和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抑制胰酶分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①禁食和胃肠减压；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早期静脉滴注抑肽酶、加贝酯；③应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H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受体拮抗剂或质子泵抑制剂；④应用生长抑素及其衍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抗生素应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选用对肠道异位细菌敏感且对胰腺有较好渗透性的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纠正水、电解质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营养支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患者早期条件允许即给予营养支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并发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中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腹腔灌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适用于出血坏死型胰腺炎伴大量腹腔渗液者，可清除胰腺渗出物和释放的胰酶等有毒物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手术治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出血坏死性胰腺炎经内科治疗无效，或胰腺炎并发脓肿、假性囊肿、弥漫性腹膜炎、肠穿孔、肠梗阻及肠麻痹坏死时，需行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方正舒体"/>
                <a:ea typeface="方正舒体"/>
              </a:rPr>
              <a:t>护理诊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疼痛   与胰腺及其周围组织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液不足  与体液外渗及血管扩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失调  低于机体需要量，与禁食、呕吐、胃肠减压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织灌注不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胰腺出血坏死，腹腔、腹膜后大量渗液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恐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腹痛剧烈及病情进展急骤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潜在并发症：休克、急性肾衰竭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RD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胰性脑病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心力衰竭、感染和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CB5B-8CEF-4AFE-B116-1612427AD58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9ECA-4DBC-4018-83A0-2EC1ED88E49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1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一般护理措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食、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镇痛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和迅速纠正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密监测患者的体温变化，必要时给予物理降温或药物降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础护理：保持患者清洁，协助调整体位，及时清除排泄物及渗出液，做好患者的皮肤保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562B-8EA5-4C15-BC6F-1B71A8EF913E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76C5-C381-4712-B0A2-1EBE22D7EC3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病史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日常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患病的起始情况、主要症状及其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既往检查、治疗经过及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既往疾病史及药物史、心理社会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ECC2-A8CA-467F-A6A8-11E31142D82D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F9BA-A87B-4EC2-9DF5-E12CF2B2EDD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2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急性反应期的监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基本生命体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神智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PO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循环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V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尿量、皮肤黏膜、肢端循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呼吸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呼吸频率、状态、肺部听诊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iO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血气分析、胸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消化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营养状况、黄疸、腹部体征（外观、腹膜刺激征、腹水、腹压）、胃肠功能（肠鸣、胃液、大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其他器官功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肾功、肝功、血糖、血尿淀粉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辅助检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超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其他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0592-528C-4EFC-8A92-F77E00D89EA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0E20-ABF1-452E-B885-C4B81554D27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3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血糖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密监测血糖及与血糖改变相关的症状和体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若在排除休克的情况下患者出现出冷汗、旋晕、意识水平下降等，应考虑低血糖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糖浓度居高不下或波动太大，最好能每小时监测血糖，根据血糖水平调整外源性胰岛素补充的量及速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0CBE-E642-43CC-B64F-13563708CD98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3C72-C125-41C4-8E8E-D5DC88FF130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4.1 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感染的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0" y="1267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应安置于一个环境清洁、相对隔离的单间，保持室内合适的温度及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监测患者的体温，高热患者应每小时监测体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监测气道分泌物、尿液、腹腔引流液的性状、气味、颜色及细菌学检查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各种引流管道通畅，做好各种管道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引流口及伤口无菌，敷料清洁、干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816C-6B08-4F9E-A585-D964DF09D9D3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A1AE-9D59-4F2F-9E69-BED9E289B9B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4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感染的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2920" y="1071360"/>
            <a:ext cx="92534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进行各种侵入性操作时应严格遵循无菌原则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做好人工气道护理，合理进行人工气道湿化及胸部理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积极治疗各种感染病灶，包括褥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善患者营养，增强机体抵抗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药物敏感试验合理使用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03BF-4477-4D00-AED8-00ED09493138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F88E-94F7-4F91-894E-2FC5A00279B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1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SAP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常见管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管、鼻肠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气管插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中心静脉置管、血透用股静脉置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腔引流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肛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4A4A-5D99-4B52-A211-BFE96CEF0E47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E889-B469-4C35-97E9-696CEF86B35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明确标记 ：名称、更换日期，记录长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妥善固定，尤其翻身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引流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密闭，严格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皮肤的护理，及时更换敷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准确记录引流物的量及性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D368-3E83-4595-BB38-51D7525C4F27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0BC3-F385-4BF7-AC4B-4F1F781A559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SAP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常见管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防移位和滑脱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记录导管插入深度，在鼻翼和同侧面颊处用宽胶布双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防堵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每次灌注营养液前后均用温水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冲洗管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持续输注者应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小时冲洗管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未使用者至少每天冲洗管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413A-60BE-4410-AE7B-2A5E892DEB3C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B217-D7FC-415F-A157-AD10630B09E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3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鼻空肠管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8a5c8c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有效的负压引流，负压宜大，以能吸引出腹腔液体、引流管周围无渗出液为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见坏死组织堵塞管道，应及时挤压维持通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有血性液引出，应立即减小负压并通知医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</a:rPr>
              <a:t>密切观察冲洗液与引流液在量上的对比及引流液的量、色、性、味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5101-AA55-4597-B2E5-365EE085FB7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5362-F9F2-4FED-9061-EDC2F694B10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4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引流管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完整性受损的危险因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长期受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渗液浸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造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0D4A-5AF3-4F72-B283-891598F2B9B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F0B9-CC7A-483B-BD73-47919406F01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.1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加强会阴及肛周的清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涂紫草油、鞣酸、皮肤保护膜等进行皮肤保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留置肛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局部长期受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使用气垫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定时翻身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水胶体敷料保护受压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0901-0DD6-40C0-8D28-33135A7D21C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CB8D-5FF8-4431-8AC1-B69B74692B4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体格检查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视诊：营养情况、皮肤黏膜、腹部外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听诊：肠鸣音、血管杂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触诊：腹部紧张度、有无压痛及反跳痛及其发生部位与程度；肝脾、包块及其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叩诊：实音、鼓音、移动性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25AE-DEAD-44AE-B264-B018C8933F70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80EE-0484-4959-B7E0-F023E86EA57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造瘘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造口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腹部渗液浸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维持腹腔引流管有效的负压吸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及时更换浸湿的敷料及床单，清洁皮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使用皮肤保护膜等隔离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营养不良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4ADC-4720-4D2C-AAA0-05527C90740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965B-9F36-409A-9593-C8B735CA8E2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9" name="矩形 4" descr=""/>
          <p:cNvPicPr/>
          <p:nvPr/>
        </p:nvPicPr>
        <p:blipFill>
          <a:blip r:embed="rId1"/>
          <a:stretch/>
        </p:blipFill>
        <p:spPr>
          <a:xfrm>
            <a:off x="2371680" y="2762280"/>
            <a:ext cx="436392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4e0ec"/>
                </a:solidFill>
                <a:latin typeface="Verdana"/>
              </a:rPr>
              <a:t>消化系统的常见症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厌食、恶心呕吐、嗳气与反酸、咽下困难、胸骨或剑突下烧灼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胀、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与粪便性状、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呕血、便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皮肤与巩膜黄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E01A-8BF1-4C38-89CD-C91B32AC566B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43DD-2803-4685-93B4-E6AFDE1055C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30:58Z</dcterms:modified>
  <cp:revision>8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